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C39-25E7-401B-BEF2-70C73FD3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5F03-38C6-4DB0-959C-E7ACBAAE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1DF-1D1C-4CFF-9DDD-BA4D79E0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4246-59AF-432E-8E70-2DB4FAEC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C3F-3EF6-4961-A109-B7B801CC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746-B1AF-46AE-91FB-0C168C47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F37-D99C-4A62-838C-DC394359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725-6621-44BE-A7AF-583ADEEF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4AFB-4430-47BA-9435-EBC6E913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8C9A-2CD8-4D7A-89FD-4B95C5CA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197-A769-4056-8D63-A7974EC8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2A2-D48A-47F2-B1F4-5C13C6CE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9126-0586-40EC-97ED-039F64E58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nfession (threefold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hrist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rd, have merc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23:51:59Z</dcterms:created>
  <dc:creator>Anon Anon</dc:creator>
  <dc:description/>
  <dc:language>en-US</dc:language>
  <cp:lastModifiedBy>Anon Anon</cp:lastModifiedBy>
  <dcterms:modified xsi:type="dcterms:W3CDTF">2005-08-09T05:33:41Z</dcterms:modified>
  <cp:revision>9</cp:revision>
  <dc:subject/>
  <dc:title>Confession (threefold form)</dc:title>
</cp:coreProperties>
</file>